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9CF-DA8D-4182-90B5-50F8ACB4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F8A-FD44-4266-9FA3-BD1E82FC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B4A-E338-4056-82BA-7AA9F5F0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FFC-DA29-4E60-8EF4-78A193B4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6A11-36DC-4ECC-912D-8E233843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2079-C387-4106-9A98-00601E97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94A0-D0A1-4BB7-B15A-813A64A8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A18B-3ACC-47C1-AF58-8C1442FE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FBBA-27E4-4462-804B-B20F2741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4E7F-BD8A-4ACD-838F-5A146CE7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80E7-A07F-4934-AC1A-75121514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779-BE06-4468-ADA6-A1CE5E04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83CD-729C-4CEB-AA60-0F1D353A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55E6-CC11-49E9-98AB-BFFA7F1D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13A5-7BB8-4D47-A6E8-9C4AC119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0C1D-C139-4B0B-B244-05A886BC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3C19-44D9-49AF-A6BD-7A275F5A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AB7-9239-49F0-866B-6A82A82B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5E1-AAB5-4363-BA80-18D24CE0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987-A7A1-43AF-B2DD-F9D37039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690-52A4-424E-94BE-45B6D21B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0BEB-2FC8-41E9-97AB-AEC8AD16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072-19C1-40F3-8DBE-8D026381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8D2-77D1-4B28-A654-7B49FA23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2942-50AE-401C-822C-6663D436C14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DF78-D4B5-4CFD-AB66-1155947A2A7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O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xplanation : clarify:: _____ : ______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eward:recap, picture:replace, example:illustrate, omission:emphasiz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at is the relationship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irth : happiness :: importinence : _____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spect, merriment, insolence, degrad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at is the relationship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sw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xample: illustra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y are the sam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sole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y are the sam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reewri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rite about anyth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5 minut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Homophones-write a homophone for the following words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ci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gh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o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lu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oar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ach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ea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alect-continue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ad the Mark Twain excerpt and underline all examples of dialect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hapter 5 questi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. When Scout begins to drift away from the boys, with whom does she spend much time?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. Why does Miss Maudie hate her house?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. Why do the children have faith in Miss Maudie?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. How do the children try to send the message to Boo?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5. What does Miss Maudie mean when she says Atticus is the same in his house as he is on the public streets?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uestions-continue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. What does Uncle Jack yell at Miss Maudie each Christmas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7. Atticus uses something like a threat when he finds the children trying to get a note to Boo Radley. What is the threat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8. Uncle Jack Finch says the “best defense to her [Miss Maudie] was spirited offense.” What does he mean by that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9. What does Miss Maudie mean when she says that the things told about Arthur Radley are “three-fourths colored folks and one-fourth Stephanie Crawford”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0. What gesture of friendship cements Miss Maudie’s and Scout’s relationship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: Do the following response journal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 notebook, one paragrap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ss Maudie says, “…sometimes the Bible in the hand of one man is worse than a whiskey bottle in the hand of someone else.” Try to explain what she means by thi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ad Ch. 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on’t forget to work on 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5:31:47Z</dcterms:created>
  <dc:creator>Angie</dc:creator>
  <dc:description/>
  <dc:language>en-US</dc:language>
  <cp:lastModifiedBy>rebecca</cp:lastModifiedBy>
  <dcterms:modified xsi:type="dcterms:W3CDTF">2009-01-27T15:38:29Z</dcterms:modified>
  <cp:revision>4</cp:revision>
  <dc:subject/>
  <dc:title>DOA</dc:title>
</cp:coreProperties>
</file>